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B32-F305-41F0-A1CB-6654967C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032-EBB2-458E-AC1A-9A6B00F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1E5-FC5D-42F9-97EB-F606B249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AE4-5B5B-40CD-8A2C-F68FB57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C717-BF94-4FB2-B359-8A68260B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817E-5569-4D28-AB0B-40A31AE4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CB51-DB22-43D6-BEAF-972E9762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538-EB65-4FAC-9D39-6FD3C4A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CD8-CA98-4EB7-AA46-3608C56D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7488-465D-4E3B-AE49-C185FF92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DE7A-C528-4831-9D64-121273D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FE9-0C18-478A-A221-A85EEB4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88F-8BB4-437A-A22C-C50D4F5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9D7C-3054-4699-BDD9-A425B2E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2B8E-6AAB-4D29-A29A-6A3EC18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C402-467A-453E-8632-1784D16E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F1C5-269A-4BC7-B4FE-04D558B0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7B4-A60A-4A8E-8FDC-C0E9AEFC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B3F-C4EC-4AAA-B6F2-98545D0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640-0902-4D0C-AF8F-D0CF17A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FD8-0462-4092-BFE2-99C4BD9B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D71-D9BA-428E-A426-A3117B7F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241-C304-4FD9-9807-D9A8E6F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91E-916A-470F-9EAE-6262892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887-E4F3-4091-BD2A-F13A4400F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6A5-B8D7-464B-9AA6-2F7F44374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Reed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on Anne O’Connor-Petr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ym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Olympics for High School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Olym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Effective way to identify exceptional 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Initiates Academic Olympics in 1934 in Mos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Academic Olympics to other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to Most of the USSR and Soviet Block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viet Olympic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exceptional 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Tal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Talent wher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Olympiads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exceptional 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Talented to enter Science/Engineering (S/E) Pip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Olympians will make contributions to the 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Olympi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ed identified by demanding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20 students in the nation are identifi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Camp trains best 5 or 6 for international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ympiad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pectiv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, Chemistry,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Involved: USA, Taiwan, China, Korea, Finland,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 Olympians fulfill their high potent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factors helped or hindered the development of Olympian’s tal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ow effective are the Olympiad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12:02:09Z</dcterms:created>
  <dc:creator>Dr. Campbell</dc:creator>
  <dc:description/>
  <dc:language>en-US</dc:language>
  <cp:lastModifiedBy>Dr. O'Connor-Petruso</cp:lastModifiedBy>
  <dcterms:modified xsi:type="dcterms:W3CDTF">2008-09-13T22:02:52Z</dcterms:modified>
  <cp:revision>8</cp:revision>
  <dc:subject/>
  <dc:title>INTRODUCTION</dc:title>
</cp:coreProperties>
</file>